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344-D12B-43DF-A3E0-D226DE9A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AD54-F2B9-483F-95D3-6A3BB115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5CD-E9DB-4DFA-BD2B-8ECB4EE5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D895-CF0E-4778-BD32-C55B935D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EEA-55C3-4431-AEBF-B597FA91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52B-C24D-43C2-9B4B-251B3E9A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C0A-BB84-4F61-9C4A-9A8D1EA0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3C6-C926-4BBE-AA86-0B2D2663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AFB-5C35-4F5F-A1E4-D2F2F166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189-8529-485F-80CD-9A601495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730-9E3D-42F4-AC96-4E4E2069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079-F5C2-4B96-B5C3-91781744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2EF0-FB3F-4C02-A632-7FA0B7747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e llamo _________ Clase 7 IM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La fecha es el 26 de octubre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4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es trabajan a bordo del av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Historieta 10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89 (1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peg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terr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leg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bar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embar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is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la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o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spec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70480" y="1309680"/>
            <a:ext cx="17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 de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69400" y="175248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 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70120" y="2224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91360" y="274320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 ar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71200" y="3214800"/>
            <a:ext cx="31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 embark/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74400" y="3672000"/>
            <a:ext cx="377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 disembark/ get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92080" y="4114800"/>
            <a:ext cx="17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9040" y="458640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 cl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70480" y="5105520"/>
            <a:ext cx="19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 pick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74040" y="557676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 in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70480" y="603396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s 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u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trip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/la a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iloto / El comand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opil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pasaj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ol de pasapor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nmig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tranjer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pu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53640" y="91440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72240" y="144792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ight c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6960" y="184320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ssi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25080" y="2362320"/>
            <a:ext cx="9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i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9760" y="283356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pi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4040" y="329076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asse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6960" y="373392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us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32040" y="4191120"/>
            <a:ext cx="2984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asspor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Immi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55600" y="511956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ore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64120" y="55767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5360" y="603396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92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lp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74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03:01:23Z</dcterms:created>
  <dc:creator>Helen Zumaeta</dc:creator>
  <dc:description/>
  <dc:language>en-US</dc:language>
  <cp:lastModifiedBy>Helen Zumaeta</cp:lastModifiedBy>
  <dcterms:modified xsi:type="dcterms:W3CDTF">2011-10-26T13:44:50Z</dcterms:modified>
  <cp:revision>4</cp:revision>
  <dc:subject/>
  <dc:title>Me llamo _________ Clase 7 IM La fecha es el 26 de octubre del 2011</dc:title>
</cp:coreProperties>
</file>